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79E-5863-4D95-B80F-6A62AE48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062-1F96-41E6-BF52-D1258A17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385-5926-4E67-A91D-348141F7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C01-C951-4151-8B16-58BAE4B0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3E0-1604-4442-8AF7-5480CC99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F05-6E5C-4940-B772-7D8D8FAC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4A8-40B0-4664-8BE1-D5454918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D18-AA5E-4115-B0E5-8684558D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C03-6F8A-484A-BCE2-1B110753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295-04E9-44EF-87F5-21693141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F76-CDAF-4FF6-BA31-A0B53C73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7CA-4E4D-4036-89DF-795C0C5F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A2C6-EAE6-4D58-B588-D49551956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03640" y="2852640"/>
            <a:ext cx="293040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ремена го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2590560" cy="2087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2000" y="620640"/>
            <a:ext cx="2519280" cy="2087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84720" y="4005360"/>
            <a:ext cx="2590920" cy="229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8360" y="3933720"/>
            <a:ext cx="287964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38836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372360" y="3933720"/>
            <a:ext cx="21589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то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Заголовок 3"/>
          <p:cNvSpPr/>
          <p:nvPr/>
        </p:nvSpPr>
        <p:spPr>
          <a:xfrm>
            <a:off x="971640" y="907920"/>
            <a:ext cx="5329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Я соткано из зноя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су тепло с собою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Я реки согреваю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Купайтесь!» - приглашаю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 любите за это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ы все меня. Я . .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7451640" y="558972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bcbc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3"/>
          <p:cNvSpPr/>
          <p:nvPr/>
        </p:nvSpPr>
        <p:spPr>
          <a:xfrm>
            <a:off x="900000" y="2133720"/>
            <a:ext cx="6553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Утром мы во двор идём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истья сыплются дождём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од ногами шелестят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 летят, летят, летя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16720" y="3860640"/>
            <a:ext cx="1728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ен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7451640" y="558972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bcbc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3"/>
          <p:cNvSpPr/>
          <p:nvPr/>
        </p:nvSpPr>
        <p:spPr>
          <a:xfrm>
            <a:off x="971640" y="1413000"/>
            <a:ext cx="5832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ел у меня не мало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Я белым одеялом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сю землю укрываю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 лёд реки убираю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елю поля, дома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овут меня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516720" y="4005360"/>
            <a:ext cx="17272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им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7451640" y="558972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bcbc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3"/>
          <p:cNvSpPr/>
          <p:nvPr/>
        </p:nvSpPr>
        <p:spPr>
          <a:xfrm>
            <a:off x="1042920" y="1125360"/>
            <a:ext cx="547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Я раскрываю почки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 зелёные листочки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Деревья одеваю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осевы поливаю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Движения полна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овут меня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516720" y="3933720"/>
            <a:ext cx="172872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7451640" y="558972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bcbc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5:31:52Z</dcterms:created>
  <dc:creator>админ</dc:creator>
  <dc:description/>
  <dc:language>en-US</dc:language>
  <cp:lastModifiedBy>учитель</cp:lastModifiedBy>
  <dcterms:modified xsi:type="dcterms:W3CDTF">2011-03-15T12:06:58Z</dcterms:modified>
  <cp:revision>6</cp:revision>
  <dc:subject/>
  <dc:title>Слайд 1</dc:title>
</cp:coreProperties>
</file>